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6.wmf" ContentType="image/x-wmf"/>
  <Override PartName="/ppt/media/image125.wmf" ContentType="image/x-wmf"/>
  <Override PartName="/ppt/media/image124.wmf" ContentType="image/x-wmf"/>
  <Override PartName="/ppt/media/image123.wmf" ContentType="image/x-wmf"/>
  <Override PartName="/ppt/media/image122.wmf" ContentType="image/x-wmf"/>
  <Override PartName="/ppt/media/image121.wmf" ContentType="image/x-wmf"/>
  <Override PartName="/ppt/media/image116.wmf" ContentType="image/x-wmf"/>
  <Override PartName="/ppt/media/image184.wmf" ContentType="image/x-wmf"/>
  <Override PartName="/ppt/media/image115.wmf" ContentType="image/x-wmf"/>
  <Override PartName="/ppt/media/image183.wmf" ContentType="image/x-wmf"/>
  <Override PartName="/ppt/media/image114.wmf" ContentType="image/x-wmf"/>
  <Override PartName="/ppt/media/image182.wmf" ContentType="image/x-wmf"/>
  <Override PartName="/ppt/media/image113.wmf" ContentType="image/x-wmf"/>
  <Override PartName="/ppt/media/image181.wmf" ContentType="image/x-wmf"/>
  <Override PartName="/ppt/media/image112.wmf" ContentType="image/x-wmf"/>
  <Override PartName="/ppt/media/image180.wmf" ContentType="image/x-wmf"/>
  <Override PartName="/ppt/media/image111.wmf" ContentType="image/x-wmf"/>
  <Override PartName="/ppt/media/image106.wmf" ContentType="image/x-wmf"/>
  <Override PartName="/ppt/media/image174.wmf" ContentType="image/x-wmf"/>
  <Override PartName="/ppt/media/image105.wmf" ContentType="image/x-wmf"/>
  <Override PartName="/ppt/media/image173.wmf" ContentType="image/x-wmf"/>
  <Override PartName="/ppt/media/image104.wmf" ContentType="image/x-wmf"/>
  <Override PartName="/ppt/media/image172.wmf" ContentType="image/x-wmf"/>
  <Override PartName="/ppt/media/image103.wmf" ContentType="image/x-wmf"/>
  <Override PartName="/ppt/media/image171.wmf" ContentType="image/x-wmf"/>
  <Override PartName="/ppt/media/image102.wmf" ContentType="image/x-wmf"/>
  <Override PartName="/ppt/media/image170.wmf" ContentType="image/x-wmf"/>
  <Override PartName="/ppt/media/image101.wmf" ContentType="image/x-wmf"/>
  <Override PartName="/ppt/media/image99.wmf" ContentType="image/x-wmf"/>
  <Override PartName="/ppt/media/image98.wmf" ContentType="image/x-wmf"/>
  <Override PartName="/ppt/media/image97.wmf" ContentType="image/x-wmf"/>
  <Override PartName="/ppt/media/image29.wmf" ContentType="image/x-wmf"/>
  <Override PartName="/ppt/media/image96.wmf" ContentType="image/x-wmf"/>
  <Override PartName="/ppt/media/image28.wmf" ContentType="image/x-wmf"/>
  <Override PartName="/ppt/media/image95.wmf" ContentType="image/x-wmf"/>
  <Override PartName="/ppt/media/image27.wmf" ContentType="image/x-wmf"/>
  <Override PartName="/ppt/media/image89.wmf" ContentType="image/x-wmf"/>
  <Override PartName="/ppt/media/image88.wmf" ContentType="image/x-wmf"/>
  <Override PartName="/ppt/media/image87.wmf" ContentType="image/x-wmf"/>
  <Override PartName="/ppt/media/image19.wmf" ContentType="image/x-wmf"/>
  <Override PartName="/ppt/media/image79.wmf" ContentType="image/x-wmf"/>
  <Override PartName="/ppt/media/image78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71.wmf" ContentType="image/x-wmf"/>
  <Override PartName="/ppt/media/image70.wmf" ContentType="image/x-wmf"/>
  <Override PartName="/ppt/media/image120.wmf" ContentType="image/x-wmf"/>
  <Override PartName="/ppt/media/image69.wmf" ContentType="image/x-wmf"/>
  <Override PartName="/ppt/media/image68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63.wmf" ContentType="image/x-wmf"/>
  <Override PartName="/ppt/media/image127.wmf" ContentType="image/x-wmf"/>
  <Override PartName="/ppt/media/image34.wmf" ContentType="image/x-wmf"/>
  <Override PartName="/ppt/media/image50.wmf" ContentType="image/x-wmf"/>
  <Override PartName="/ppt/media/image147.wmf" ContentType="image/x-wmf"/>
  <Override PartName="/ppt/media/image51.wmf" ContentType="image/x-wmf"/>
  <Override PartName="/ppt/media/image148.wmf" ContentType="image/x-wmf"/>
  <Override PartName="/ppt/media/image52.wmf" ContentType="image/x-wmf"/>
  <Override PartName="/ppt/media/image149.wmf" ContentType="image/x-wmf"/>
  <Override PartName="/ppt/media/image53.wmf" ContentType="image/x-wmf"/>
  <Override PartName="/ppt/media/image128.wmf" ContentType="image/x-wmf"/>
  <Override PartName="/ppt/media/image129.wmf" ContentType="image/x-wmf"/>
  <Override PartName="/ppt/media/image32.wmf" ContentType="image/x-wmf"/>
  <Override PartName="/ppt/media/image133.wmf" ContentType="image/x-wmf"/>
  <Override PartName="/ppt/media/image2.png" ContentType="image/png"/>
  <Override PartName="/ppt/media/image134.wmf" ContentType="image/x-wmf"/>
  <Override PartName="/ppt/media/image3.png" ContentType="image/png"/>
  <Override PartName="/ppt/media/image135.wmf" ContentType="image/x-wmf"/>
  <Override PartName="/ppt/media/image4.png" ContentType="image/png"/>
  <Override PartName="/ppt/media/image136.wmf" ContentType="image/x-wmf"/>
  <Override PartName="/ppt/media/image137.wmf" ContentType="image/x-wmf"/>
  <Override PartName="/ppt/media/image40.wmf" ContentType="image/x-wmf"/>
  <Override PartName="/ppt/media/image138.wmf" ContentType="image/x-wmf"/>
  <Override PartName="/ppt/media/image41.wmf" ContentType="image/x-wmf"/>
  <Override PartName="/ppt/media/image139.wmf" ContentType="image/x-wmf"/>
  <Override PartName="/ppt/media/image42.wmf" ContentType="image/x-wmf"/>
  <Override PartName="/ppt/media/image160.wmf" ContentType="image/x-wmf"/>
  <Override PartName="/ppt/media/image161.wmf" ContentType="image/x-wmf"/>
  <Override PartName="/ppt/media/image162.wmf" ContentType="image/x-wmf"/>
  <Override PartName="/ppt/media/image163.wmf" ContentType="image/x-wmf"/>
  <Override PartName="/ppt/media/image164.wmf" ContentType="image/x-wmf"/>
  <Override PartName="/ppt/media/image165.wmf" ContentType="image/x-wmf"/>
  <Override PartName="/ppt/media/image33.wmf" ContentType="image/x-wmf"/>
  <Override PartName="/ppt/media/image156.wmf" ContentType="image/x-wmf"/>
  <Override PartName="/ppt/media/image45.wmf" ContentType="image/x-wmf"/>
  <Override PartName="/ppt/media/image131.wmf" ContentType="image/x-wmf"/>
  <Override PartName="/ppt/media/image168.wmf" ContentType="image/x-wmf"/>
  <Override PartName="/ppt/media/image46.wmf" ContentType="image/x-wmf"/>
  <Override PartName="/ppt/media/image132.wmf" ContentType="image/x-wmf"/>
  <Override PartName="/ppt/media/image1.png" ContentType="image/png"/>
  <Override PartName="/ppt/media/image169.wmf" ContentType="image/x-wmf"/>
  <Override PartName="/ppt/media/image43.wmf" ContentType="image/x-wmf"/>
  <Override PartName="/ppt/media/image166.wmf" ContentType="image/x-wmf"/>
  <Override PartName="/ppt/media/image143.wmf" ContentType="image/x-wmf"/>
  <Override PartName="/ppt/media/image44.wmf" ContentType="image/x-wmf"/>
  <Override PartName="/ppt/media/image130.wmf" ContentType="image/x-wmf"/>
  <Override PartName="/ppt/media/image167.wmf" ContentType="image/x-wmf"/>
  <Override PartName="/ppt/media/image144.wmf" ContentType="image/x-wmf"/>
  <Override PartName="/ppt/media/image155.wmf" ContentType="image/x-wmf"/>
  <Override PartName="/ppt/media/image154.wmf" ContentType="image/x-wmf"/>
  <Override PartName="/ppt/media/image153.wmf" ContentType="image/x-wmf"/>
  <Override PartName="/ppt/media/image152.wmf" ContentType="image/x-wmf"/>
  <Override PartName="/ppt/media/image151.wmf" ContentType="image/x-wmf"/>
  <Override PartName="/ppt/media/image150.wmf" ContentType="image/x-wmf"/>
  <Override PartName="/ppt/media/image146.wmf" ContentType="image/x-wmf"/>
  <Override PartName="/ppt/media/image145.wmf" ContentType="image/x-wmf"/>
  <Override PartName="/ppt/media/image56.wmf" ContentType="image/x-wmf"/>
  <Override PartName="/ppt/media/image179.wmf" ContentType="image/x-wmf"/>
  <Override PartName="/ppt/media/image142.wmf" ContentType="image/x-wmf"/>
  <Override PartName="/ppt/media/image55.wmf" ContentType="image/x-wmf"/>
  <Override PartName="/ppt/media/image178.wmf" ContentType="image/x-wmf"/>
  <Override PartName="/ppt/media/image141.wmf" ContentType="image/x-wmf"/>
  <Override PartName="/ppt/media/image54.wmf" ContentType="image/x-wmf"/>
  <Override PartName="/ppt/media/image140.wmf" ContentType="image/x-wmf"/>
  <Override PartName="/ppt/media/image39.wmf" ContentType="image/x-wmf"/>
  <Override PartName="/ppt/media/image31.wmf" ContentType="image/x-wmf"/>
  <Override PartName="/ppt/media/image9.wmf" ContentType="image/x-wmf"/>
  <Override PartName="/ppt/media/image38.wmf" ContentType="image/x-wmf"/>
  <Override PartName="/ppt/media/image30.wmf" ContentType="image/x-wmf"/>
  <Override PartName="/ppt/media/image8.wmf" ContentType="image/x-wmf"/>
  <Override PartName="/ppt/media/image17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77.wmf" ContentType="image/x-wmf"/>
  <Override PartName="/ppt/media/image109.wmf" ContentType="image/x-wmf"/>
  <Override PartName="/ppt/media/image80.wmf" ContentType="image/x-wmf"/>
  <Override PartName="/ppt/media/image12.wmf" ContentType="image/x-wmf"/>
  <Override PartName="/ppt/media/image37.wmf" ContentType="image/x-wmf"/>
  <Override PartName="/ppt/media/image62.wmf" ContentType="image/x-wmf"/>
  <Override PartName="/ppt/media/image159.wmf" ContentType="image/x-wmf"/>
  <Override PartName="/ppt/media/image7.wmf" ContentType="image/x-wmf"/>
  <Override PartName="/ppt/media/image16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108.wmf" ContentType="image/x-wmf"/>
  <Override PartName="/ppt/media/image176.wmf" ContentType="image/x-wmf"/>
  <Override PartName="/ppt/media/image82.wmf" ContentType="image/x-wmf"/>
  <Override PartName="/ppt/media/image14.wmf" ContentType="image/x-wmf"/>
  <Override PartName="/ppt/media/image36.wmf" ContentType="image/x-wmf"/>
  <Override PartName="/ppt/media/image61.wmf" ContentType="image/x-wmf"/>
  <Override PartName="/ppt/media/image158.wmf" ContentType="image/x-wmf"/>
  <Override PartName="/ppt/media/image6.wmf" ContentType="image/x-wmf"/>
  <Override PartName="/ppt/media/image86.wmf" ContentType="image/x-wmf"/>
  <Override PartName="/ppt/media/image18.wmf" ContentType="image/x-wmf"/>
  <Override PartName="/ppt/media/image15.wmf" ContentType="image/x-wmf"/>
  <Override PartName="/ppt/media/image83.wmf" ContentType="image/x-wmf"/>
  <Override PartName="/ppt/media/image47.wmf" ContentType="image/x-wmf"/>
  <Override PartName="/ppt/media/image10.wmf" ContentType="image/x-wmf"/>
  <Override PartName="/ppt/media/image107.wmf" ContentType="image/x-wmf"/>
  <Override PartName="/ppt/media/image175.wmf" ContentType="image/x-wmf"/>
  <Override PartName="/ppt/media/image81.wmf" ContentType="image/x-wmf"/>
  <Override PartName="/ppt/media/image13.wmf" ContentType="image/x-wmf"/>
  <Override PartName="/ppt/media/image35.wmf" ContentType="image/x-wmf"/>
  <Override PartName="/ppt/media/image5.wmf" ContentType="image/x-wmf"/>
  <Override PartName="/ppt/media/image157.wmf" ContentType="image/x-wmf"/>
  <Override PartName="/ppt/media/image60.wmf" ContentType="image/x-wmf"/>
  <Override PartName="/ppt/media/image57.wmf" ContentType="image/x-wmf"/>
  <Override PartName="/ppt/media/image20.wmf" ContentType="image/x-wmf"/>
  <Override PartName="/ppt/media/image117.wmf" ContentType="image/x-wmf"/>
  <Override PartName="/ppt/media/image185.wmf" ContentType="image/x-wmf"/>
  <Override PartName="/ppt/media/image58.wmf" ContentType="image/x-wmf"/>
  <Override PartName="/ppt/media/image21.wmf" ContentType="image/x-wmf"/>
  <Override PartName="/ppt/media/image118.wmf" ContentType="image/x-wmf"/>
  <Override PartName="/ppt/media/image59.wmf" ContentType="image/x-wmf"/>
  <Override PartName="/ppt/media/image110.wmf" ContentType="image/x-wmf"/>
  <Override PartName="/ppt/media/image119.wmf" ContentType="image/x-wmf"/>
  <Override PartName="/ppt/media/image93.wmf" ContentType="image/x-wmf"/>
  <Override PartName="/ppt/media/image25.wmf" ContentType="image/x-wmf"/>
  <Override PartName="/ppt/media/image22.wmf" ContentType="image/x-wmf"/>
  <Override PartName="/ppt/media/image90.wmf" ContentType="image/x-wmf"/>
  <Override PartName="/ppt/media/image94.wmf" ContentType="image/x-wmf"/>
  <Override PartName="/ppt/media/image26.wmf" ContentType="image/x-wmf"/>
  <Override PartName="/ppt/media/image23.wmf" ContentType="image/x-wmf"/>
  <Override PartName="/ppt/media/image91.wmf" ContentType="image/x-wmf"/>
  <Override PartName="/ppt/media/image24.wmf" ContentType="image/x-wmf"/>
  <Override PartName="/ppt/media/image9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CCCA-449B-40E8-8760-712BE1E47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5617-2A5F-49E9-AF81-36E9FAC57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3FBD-C04F-4B21-933F-FE95DC13C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DF66-628A-4188-A22B-EE1E84529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0210-B86E-4A04-8048-8E534DFC0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0EFE-4461-4CF3-B1D2-3A638455E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777B-9985-4833-9F85-70FF7AD8E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1954-5A3C-481C-91A8-6D4E21601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0F69-33C8-487D-9E59-5181EB858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5F55-5BF1-494C-A260-BFB3B225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F7C6-30E5-4CB0-9E21-F573BC30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6561-AEFF-4762-91B8-C7DE21C8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4AACE-7164-4DEB-8529-A6CFED8BA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tmp/home/.config/libreoffice/4/user/gallery/TingBell3.wav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40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41.wmf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42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43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44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45.wmf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46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47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48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49.wmf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50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51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52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53.wmf"/><Relationship Id="rId1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54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55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56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57.wmf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58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59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60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61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62.wmf"/><Relationship Id="rId1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63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64.wmf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65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66.wmf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67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68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69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70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71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72.wmf"/><Relationship Id="rId19" Type="http://schemas.openxmlformats.org/officeDocument/2006/relationships/oleObject" Target="../embeddings/oleObject7.bin"/><Relationship Id="rId20" Type="http://schemas.openxmlformats.org/officeDocument/2006/relationships/image" Target="../media/image73.wmf"/><Relationship Id="rId21" Type="http://schemas.openxmlformats.org/officeDocument/2006/relationships/oleObject" Target="../embeddings/oleObject8.bin"/><Relationship Id="rId22" Type="http://schemas.openxmlformats.org/officeDocument/2006/relationships/image" Target="../media/image74.wmf"/><Relationship Id="rId2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75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76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77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78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79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80.wmf"/><Relationship Id="rId19" Type="http://schemas.openxmlformats.org/officeDocument/2006/relationships/oleObject" Target="../embeddings/oleObject7.bin"/><Relationship Id="rId20" Type="http://schemas.openxmlformats.org/officeDocument/2006/relationships/image" Target="../media/image81.wmf"/><Relationship Id="rId21" Type="http://schemas.openxmlformats.org/officeDocument/2006/relationships/oleObject" Target="../embeddings/oleObject8.bin"/><Relationship Id="rId22" Type="http://schemas.openxmlformats.org/officeDocument/2006/relationships/image" Target="../media/image81.wmf"/><Relationship Id="rId23" Type="http://schemas.openxmlformats.org/officeDocument/2006/relationships/oleObject" Target="../embeddings/oleObject9.bin"/><Relationship Id="rId24" Type="http://schemas.openxmlformats.org/officeDocument/2006/relationships/image" Target="../media/image82.wmf"/><Relationship Id="rId25" Type="http://schemas.openxmlformats.org/officeDocument/2006/relationships/oleObject" Target="../embeddings/oleObject10.bin"/><Relationship Id="rId26" Type="http://schemas.openxmlformats.org/officeDocument/2006/relationships/image" Target="../media/image83.wmf"/><Relationship Id="rId27" Type="http://schemas.openxmlformats.org/officeDocument/2006/relationships/oleObject" Target="../embeddings/oleObject11.bin"/><Relationship Id="rId28" Type="http://schemas.openxmlformats.org/officeDocument/2006/relationships/image" Target="../media/image84.wmf"/><Relationship Id="rId2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7.wmf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85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86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87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88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89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90.wmf"/><Relationship Id="rId19" Type="http://schemas.openxmlformats.org/officeDocument/2006/relationships/oleObject" Target="../embeddings/oleObject7.bin"/><Relationship Id="rId20" Type="http://schemas.openxmlformats.org/officeDocument/2006/relationships/image" Target="../media/image91.wmf"/><Relationship Id="rId21" Type="http://schemas.openxmlformats.org/officeDocument/2006/relationships/oleObject" Target="../embeddings/oleObject8.bin"/><Relationship Id="rId22" Type="http://schemas.openxmlformats.org/officeDocument/2006/relationships/image" Target="../media/image92.wmf"/><Relationship Id="rId23" Type="http://schemas.openxmlformats.org/officeDocument/2006/relationships/oleObject" Target="../embeddings/oleObject9.bin"/><Relationship Id="rId24" Type="http://schemas.openxmlformats.org/officeDocument/2006/relationships/image" Target="../media/image93.wmf"/><Relationship Id="rId25" Type="http://schemas.openxmlformats.org/officeDocument/2006/relationships/oleObject" Target="../embeddings/oleObject10.bin"/><Relationship Id="rId26" Type="http://schemas.openxmlformats.org/officeDocument/2006/relationships/image" Target="../media/image94.wmf"/><Relationship Id="rId27" Type="http://schemas.openxmlformats.org/officeDocument/2006/relationships/oleObject" Target="../embeddings/oleObject11.bin"/><Relationship Id="rId28" Type="http://schemas.openxmlformats.org/officeDocument/2006/relationships/image" Target="../media/image95.wmf"/><Relationship Id="rId2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96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97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98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99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100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101.wmf"/><Relationship Id="rId1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02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03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104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105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106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107.wmf"/><Relationship Id="rId19" Type="http://schemas.openxmlformats.org/officeDocument/2006/relationships/oleObject" Target="../embeddings/oleObject7.bin"/><Relationship Id="rId20" Type="http://schemas.openxmlformats.org/officeDocument/2006/relationships/image" Target="../media/image108.wmf"/><Relationship Id="rId21" Type="http://schemas.openxmlformats.org/officeDocument/2006/relationships/oleObject" Target="../embeddings/oleObject8.bin"/><Relationship Id="rId22" Type="http://schemas.openxmlformats.org/officeDocument/2006/relationships/image" Target="../media/image109.wmf"/><Relationship Id="rId23" Type="http://schemas.openxmlformats.org/officeDocument/2006/relationships/oleObject" Target="../embeddings/oleObject9.bin"/><Relationship Id="rId24" Type="http://schemas.openxmlformats.org/officeDocument/2006/relationships/image" Target="../media/image110.wmf"/><Relationship Id="rId25" Type="http://schemas.openxmlformats.org/officeDocument/2006/relationships/oleObject" Target="../embeddings/oleObject10.bin"/><Relationship Id="rId26" Type="http://schemas.openxmlformats.org/officeDocument/2006/relationships/image" Target="../media/image111.wmf"/><Relationship Id="rId2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2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13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114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115.wmf"/><Relationship Id="rId1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6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17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118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119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120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121.wmf"/><Relationship Id="rId19" Type="http://schemas.openxmlformats.org/officeDocument/2006/relationships/oleObject" Target="../embeddings/oleObject7.bin"/><Relationship Id="rId20" Type="http://schemas.openxmlformats.org/officeDocument/2006/relationships/image" Target="../media/image122.wmf"/><Relationship Id="rId21" Type="http://schemas.openxmlformats.org/officeDocument/2006/relationships/oleObject" Target="../embeddings/oleObject8.bin"/><Relationship Id="rId22" Type="http://schemas.openxmlformats.org/officeDocument/2006/relationships/image" Target="../media/image123.wmf"/><Relationship Id="rId2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24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25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126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127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128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129.wmf"/><Relationship Id="rId1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30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31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132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133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134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135.wmf"/><Relationship Id="rId1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36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37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138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139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140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141.wmf"/><Relationship Id="rId19" Type="http://schemas.openxmlformats.org/officeDocument/2006/relationships/oleObject" Target="../embeddings/oleObject7.bin"/><Relationship Id="rId20" Type="http://schemas.openxmlformats.org/officeDocument/2006/relationships/image" Target="../media/image142.wmf"/><Relationship Id="rId21" Type="http://schemas.openxmlformats.org/officeDocument/2006/relationships/oleObject" Target="../embeddings/oleObject8.bin"/><Relationship Id="rId22" Type="http://schemas.openxmlformats.org/officeDocument/2006/relationships/image" Target="../media/image143.wmf"/><Relationship Id="rId23" Type="http://schemas.openxmlformats.org/officeDocument/2006/relationships/oleObject" Target="../embeddings/oleObject9.bin"/><Relationship Id="rId24" Type="http://schemas.openxmlformats.org/officeDocument/2006/relationships/image" Target="../media/image144.wmf"/><Relationship Id="rId2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45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46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147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148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149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150.wmf"/><Relationship Id="rId19" Type="http://schemas.openxmlformats.org/officeDocument/2006/relationships/oleObject" Target="../embeddings/oleObject7.bin"/><Relationship Id="rId20" Type="http://schemas.openxmlformats.org/officeDocument/2006/relationships/image" Target="../media/image151.wmf"/><Relationship Id="rId21" Type="http://schemas.openxmlformats.org/officeDocument/2006/relationships/oleObject" Target="../embeddings/oleObject8.bin"/><Relationship Id="rId22" Type="http://schemas.openxmlformats.org/officeDocument/2006/relationships/image" Target="../media/image152.wmf"/><Relationship Id="rId2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53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54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155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156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157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158.wmf"/><Relationship Id="rId19" Type="http://schemas.openxmlformats.org/officeDocument/2006/relationships/oleObject" Target="../embeddings/oleObject7.bin"/><Relationship Id="rId20" Type="http://schemas.openxmlformats.org/officeDocument/2006/relationships/image" Target="../media/image159.wmf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8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60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61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162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163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164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165.wmf"/><Relationship Id="rId19" Type="http://schemas.openxmlformats.org/officeDocument/2006/relationships/oleObject" Target="../embeddings/oleObject7.bin"/><Relationship Id="rId20" Type="http://schemas.openxmlformats.org/officeDocument/2006/relationships/image" Target="../media/image166.wmf"/><Relationship Id="rId21" Type="http://schemas.openxmlformats.org/officeDocument/2006/relationships/oleObject" Target="../embeddings/oleObject8.bin"/><Relationship Id="rId22" Type="http://schemas.openxmlformats.org/officeDocument/2006/relationships/image" Target="../media/image167.wmf"/><Relationship Id="rId23" Type="http://schemas.openxmlformats.org/officeDocument/2006/relationships/oleObject" Target="../embeddings/oleObject9.bin"/><Relationship Id="rId24" Type="http://schemas.openxmlformats.org/officeDocument/2006/relationships/image" Target="../media/image168.wmf"/><Relationship Id="rId25" Type="http://schemas.openxmlformats.org/officeDocument/2006/relationships/oleObject" Target="../embeddings/oleObject10.bin"/><Relationship Id="rId26" Type="http://schemas.openxmlformats.org/officeDocument/2006/relationships/image" Target="../media/image169.wmf"/><Relationship Id="rId27" Type="http://schemas.openxmlformats.org/officeDocument/2006/relationships/oleObject" Target="../embeddings/oleObject11.bin"/><Relationship Id="rId28" Type="http://schemas.openxmlformats.org/officeDocument/2006/relationships/image" Target="../media/image170.wmf"/><Relationship Id="rId2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71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72.wmf"/><Relationship Id="rId1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73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74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175.wmf"/><Relationship Id="rId1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76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77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178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179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180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181.wmf"/><Relationship Id="rId19" Type="http://schemas.openxmlformats.org/officeDocument/2006/relationships/oleObject" Target="../embeddings/oleObject7.bin"/><Relationship Id="rId20" Type="http://schemas.openxmlformats.org/officeDocument/2006/relationships/image" Target="../media/image182.wmf"/><Relationship Id="rId21" Type="http://schemas.openxmlformats.org/officeDocument/2006/relationships/oleObject" Target="../embeddings/oleObject8.bin"/><Relationship Id="rId22" Type="http://schemas.openxmlformats.org/officeDocument/2006/relationships/image" Target="../media/image183.wmf"/><Relationship Id="rId23" Type="http://schemas.openxmlformats.org/officeDocument/2006/relationships/oleObject" Target="../embeddings/oleObject9.bin"/><Relationship Id="rId24" Type="http://schemas.openxmlformats.org/officeDocument/2006/relationships/image" Target="../media/image184.wmf"/><Relationship Id="rId25" Type="http://schemas.openxmlformats.org/officeDocument/2006/relationships/oleObject" Target="../embeddings/oleObject10.bin"/><Relationship Id="rId26" Type="http://schemas.openxmlformats.org/officeDocument/2006/relationships/image" Target="../media/image185.wmf"/><Relationship Id="rId2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13.wmf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4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5.wm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7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18.wmf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20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21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22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23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24.wmf"/><Relationship Id="rId19" Type="http://schemas.openxmlformats.org/officeDocument/2006/relationships/oleObject" Target="../embeddings/oleObject7.bin"/><Relationship Id="rId20" Type="http://schemas.openxmlformats.org/officeDocument/2006/relationships/image" Target="../media/image25.wmf"/><Relationship Id="rId21" Type="http://schemas.openxmlformats.org/officeDocument/2006/relationships/oleObject" Target="../embeddings/oleObject8.bin"/><Relationship Id="rId22" Type="http://schemas.openxmlformats.org/officeDocument/2006/relationships/image" Target="../media/image26.wmf"/><Relationship Id="rId23" Type="http://schemas.openxmlformats.org/officeDocument/2006/relationships/oleObject" Target="../embeddings/oleObject9.bin"/><Relationship Id="rId24" Type="http://schemas.openxmlformats.org/officeDocument/2006/relationships/image" Target="../media/image27.wmf"/><Relationship Id="rId2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28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29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30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31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32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33.wmf"/><Relationship Id="rId1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4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35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36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37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38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39.wmf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420640"/>
            <a:ext cx="7772400" cy="10112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nte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4480" y="3857400"/>
            <a:ext cx="645948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er Mathe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52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www.maths4scotland.co.u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07960" y="333360"/>
            <a:ext cx="8096400" cy="428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637080" y="6021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" action="ppaction://hlinkshowjump?jump=nextslide"/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2920" y="580536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17680" y="159084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617840" y="1251000"/>
          <a:ext cx="3344760" cy="1093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17840" y="1251000"/>
                    <a:ext cx="3344760" cy="10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4135320" y="2900520"/>
          <a:ext cx="3186360" cy="99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35320" y="2900520"/>
                    <a:ext cx="3186360" cy="9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941400" y="3230640"/>
            <a:ext cx="24285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term by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7240" y="121284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879560" y="874800"/>
          <a:ext cx="2427480" cy="1251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79560" y="874800"/>
                    <a:ext cx="2427480" cy="12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5022720" y="2505240"/>
          <a:ext cx="2729160" cy="1073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22720" y="2505240"/>
                    <a:ext cx="272916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1190520" y="4116240"/>
          <a:ext cx="2819520" cy="1011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90520" y="4116240"/>
                    <a:ext cx="281952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5594400" y="4195800"/>
          <a:ext cx="2573280" cy="919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594400" y="4195800"/>
                    <a:ext cx="257328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/>
          <p:nvPr/>
        </p:nvSpPr>
        <p:spPr>
          <a:xfrm>
            <a:off x="2030040" y="2836800"/>
            <a:ext cx="19058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ight lin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15520" y="159084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830240" y="1092240"/>
          <a:ext cx="2646360" cy="1249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30240" y="1092240"/>
                    <a:ext cx="2646360" cy="12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4935600" y="2660760"/>
          <a:ext cx="3054240" cy="1187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935600" y="2660760"/>
                    <a:ext cx="305424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1157400" y="4102200"/>
          <a:ext cx="2611440" cy="1525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57400" y="4102200"/>
                    <a:ext cx="2611440" cy="15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5248440" y="4302000"/>
          <a:ext cx="3052440" cy="1017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248440" y="4302000"/>
                    <a:ext cx="3052440" cy="10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771200" y="3087720"/>
            <a:ext cx="19058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ight lin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45760" y="145908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2173320" y="942840"/>
          <a:ext cx="2536920" cy="1285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73320" y="942840"/>
                    <a:ext cx="253692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950760" y="2557440"/>
          <a:ext cx="2830680" cy="1359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50760" y="2557440"/>
                    <a:ext cx="2830680" cy="13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4726080" y="2492280"/>
          <a:ext cx="3749760" cy="1285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726080" y="2492280"/>
                    <a:ext cx="374976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3700440" y="4202280"/>
          <a:ext cx="3565440" cy="1212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700440" y="4202280"/>
                    <a:ext cx="3565440" cy="12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5933520" y="1285920"/>
            <a:ext cx="19058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ight lin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15520" y="159084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1995480" y="927000"/>
          <a:ext cx="2316240" cy="1581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95480" y="927000"/>
                    <a:ext cx="2316240" cy="15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5032440" y="1800360"/>
          <a:ext cx="3530520" cy="1508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32440" y="1800360"/>
                    <a:ext cx="353052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627120" y="3894120"/>
          <a:ext cx="3456000" cy="1249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27120" y="3894120"/>
                    <a:ext cx="3456000" cy="12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5157720" y="3892680"/>
          <a:ext cx="3198960" cy="957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157720" y="3892680"/>
                    <a:ext cx="319896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"/>
          <p:cNvSpPr/>
          <p:nvPr/>
        </p:nvSpPr>
        <p:spPr>
          <a:xfrm>
            <a:off x="5528160" y="1182600"/>
            <a:ext cx="29329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lit into separate fr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17680" y="159084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1738440" y="1187280"/>
          <a:ext cx="2387520" cy="1163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38440" y="1187280"/>
                    <a:ext cx="2387520" cy="11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" name=""/>
          <p:cNvGraphicFramePr/>
          <p:nvPr/>
        </p:nvGraphicFramePr>
        <p:xfrm>
          <a:off x="1549440" y="2543040"/>
          <a:ext cx="2274840" cy="1324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49440" y="2543040"/>
                    <a:ext cx="227484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4532400" y="2600280"/>
          <a:ext cx="3379680" cy="1125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32400" y="2600280"/>
                    <a:ext cx="3379680" cy="11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1300320" y="4175280"/>
          <a:ext cx="2092320" cy="1017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300320" y="4175280"/>
                    <a:ext cx="2092320" cy="101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4116240" y="4497480"/>
          <a:ext cx="939960" cy="4284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116240" y="4497480"/>
                    <a:ext cx="939960" cy="42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5426280" y="1386000"/>
            <a:ext cx="23616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tandard Integ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rom chain ru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17680" y="159084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1582560" y="1252440"/>
          <a:ext cx="4213440" cy="1094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82560" y="1252440"/>
                    <a:ext cx="4213440" cy="10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1469880" y="2800440"/>
          <a:ext cx="4599000" cy="1093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69880" y="2800440"/>
                    <a:ext cx="4599000" cy="10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5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17680" y="159084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1631880" y="1251000"/>
          <a:ext cx="1962360" cy="1093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31880" y="1251000"/>
                    <a:ext cx="1962360" cy="10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1736640" y="2781360"/>
          <a:ext cx="1833480" cy="804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736640" y="2781360"/>
                    <a:ext cx="183348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17240" y="121284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2066760" y="950760"/>
          <a:ext cx="1652760" cy="1059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66760" y="950760"/>
                    <a:ext cx="1652760" cy="10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068640" y="2225520"/>
          <a:ext cx="2046240" cy="1059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68640" y="2225520"/>
                    <a:ext cx="2046240" cy="10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580320" y="2655720"/>
            <a:ext cx="19058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ight lin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5913360" y="2131920"/>
          <a:ext cx="1973520" cy="1255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913360" y="2131920"/>
                    <a:ext cx="1973520" cy="12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1" name=""/>
          <p:cNvGraphicFramePr/>
          <p:nvPr/>
        </p:nvGraphicFramePr>
        <p:xfrm>
          <a:off x="655560" y="3506760"/>
          <a:ext cx="2244960" cy="936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55560" y="3506760"/>
                    <a:ext cx="224496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3" name=""/>
          <p:cNvGraphicFramePr/>
          <p:nvPr/>
        </p:nvGraphicFramePr>
        <p:xfrm>
          <a:off x="3646440" y="3597120"/>
          <a:ext cx="3724200" cy="838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646440" y="3597120"/>
                    <a:ext cx="372420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92200" y="4716360"/>
          <a:ext cx="2516040" cy="8384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92200" y="4716360"/>
                    <a:ext cx="251604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3701880" y="4676760"/>
          <a:ext cx="1751040" cy="838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701880" y="4676760"/>
                    <a:ext cx="17510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9" name=""/>
          <p:cNvGraphicFramePr/>
          <p:nvPr/>
        </p:nvGraphicFramePr>
        <p:xfrm>
          <a:off x="6411960" y="4692600"/>
          <a:ext cx="716040" cy="7635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411960" y="4692600"/>
                    <a:ext cx="716040" cy="7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652840" y="581508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2600280" y="640872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14000" y="1027080"/>
            <a:ext cx="332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the acceleration a i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4154400" y="811080"/>
          <a:ext cx="2859120" cy="671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54400" y="811080"/>
                    <a:ext cx="2859120" cy="6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"/>
          <p:cNvSpPr/>
          <p:nvPr/>
        </p:nvSpPr>
        <p:spPr>
          <a:xfrm>
            <a:off x="523800" y="1620720"/>
            <a:ext cx="68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it starts at rest, find an expression for the velocit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7077240" y="1427040"/>
          <a:ext cx="852480" cy="728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077240" y="1427040"/>
                    <a:ext cx="852480" cy="7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"/>
          <p:cNvGraphicFramePr/>
          <p:nvPr/>
        </p:nvGraphicFramePr>
        <p:xfrm>
          <a:off x="701640" y="2251080"/>
          <a:ext cx="1760400" cy="851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01640" y="2251080"/>
                    <a:ext cx="176040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"/>
          <p:cNvGraphicFramePr/>
          <p:nvPr/>
        </p:nvGraphicFramePr>
        <p:xfrm>
          <a:off x="3054240" y="2004840"/>
          <a:ext cx="2449800" cy="1262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054240" y="2004840"/>
                    <a:ext cx="244980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"/>
          <p:cNvGraphicFramePr/>
          <p:nvPr/>
        </p:nvGraphicFramePr>
        <p:xfrm>
          <a:off x="5884920" y="2230560"/>
          <a:ext cx="2705040" cy="850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884920" y="2230560"/>
                    <a:ext cx="270504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1" name=""/>
          <p:cNvGraphicFramePr/>
          <p:nvPr/>
        </p:nvGraphicFramePr>
        <p:xfrm>
          <a:off x="568440" y="3422520"/>
          <a:ext cx="2933640" cy="798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68440" y="3422520"/>
                    <a:ext cx="293364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"/>
          <p:cNvSpPr/>
          <p:nvPr/>
        </p:nvSpPr>
        <p:spPr>
          <a:xfrm>
            <a:off x="3868560" y="3543480"/>
            <a:ext cx="18604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s at rest, 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0, whe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6199200" y="3463920"/>
          <a:ext cx="2576520" cy="7984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199200" y="3463920"/>
                    <a:ext cx="257652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" name=""/>
          <p:cNvGraphicFramePr/>
          <p:nvPr/>
        </p:nvGraphicFramePr>
        <p:xfrm>
          <a:off x="569880" y="4395960"/>
          <a:ext cx="2576520" cy="7984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69880" y="4395960"/>
                    <a:ext cx="257652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8" name=""/>
          <p:cNvGraphicFramePr/>
          <p:nvPr/>
        </p:nvGraphicFramePr>
        <p:xfrm>
          <a:off x="3489480" y="4376880"/>
          <a:ext cx="1938240" cy="7984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489480" y="4376880"/>
                    <a:ext cx="193824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0" name=""/>
          <p:cNvGraphicFramePr/>
          <p:nvPr/>
        </p:nvGraphicFramePr>
        <p:xfrm>
          <a:off x="3967200" y="5270400"/>
          <a:ext cx="1299960" cy="7984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967200" y="5270400"/>
                    <a:ext cx="129996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2" name=""/>
          <p:cNvGraphicFramePr/>
          <p:nvPr/>
        </p:nvGraphicFramePr>
        <p:xfrm>
          <a:off x="5892840" y="4756320"/>
          <a:ext cx="2808360" cy="7729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892840" y="4756320"/>
                    <a:ext cx="2808360" cy="77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7240" y="121284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762200" y="1033560"/>
          <a:ext cx="3022560" cy="874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62200" y="1033560"/>
                    <a:ext cx="3022560" cy="87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4545000" y="2236680"/>
          <a:ext cx="3062160" cy="1189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45000" y="2236680"/>
                    <a:ext cx="3062160" cy="11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4530600" y="3827520"/>
          <a:ext cx="3349800" cy="1152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30600" y="3827520"/>
                    <a:ext cx="334980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838440" y="2649600"/>
            <a:ext cx="24285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term by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68480" y="4149720"/>
            <a:ext cx="946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17600" y="1089000"/>
            <a:ext cx="207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urve for whi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2563920" y="884160"/>
          <a:ext cx="1828800" cy="789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63920" y="884160"/>
                    <a:ext cx="1828800" cy="7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5" name=""/>
          <p:cNvGraphicFramePr/>
          <p:nvPr/>
        </p:nvGraphicFramePr>
        <p:xfrm>
          <a:off x="7505640" y="857160"/>
          <a:ext cx="1301760" cy="65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05640" y="857160"/>
                    <a:ext cx="130176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635720" y="1055520"/>
            <a:ext cx="274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es through the poi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66200" y="1806480"/>
            <a:ext cx="25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terms of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3473280" y="1657440"/>
          <a:ext cx="2370240" cy="635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73280" y="1657440"/>
                    <a:ext cx="237024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2" name=""/>
          <p:cNvGraphicFramePr/>
          <p:nvPr/>
        </p:nvGraphicFramePr>
        <p:xfrm>
          <a:off x="4083120" y="2514600"/>
          <a:ext cx="3143160" cy="635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083120" y="2514600"/>
                    <a:ext cx="314316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"/>
          <p:cNvSpPr/>
          <p:nvPr/>
        </p:nvSpPr>
        <p:spPr>
          <a:xfrm>
            <a:off x="559800" y="2614680"/>
            <a:ext cx="15249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2260440" y="2495520"/>
          <a:ext cx="1301760" cy="658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260440" y="2495520"/>
                    <a:ext cx="130176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7" name=""/>
          <p:cNvGraphicFramePr/>
          <p:nvPr/>
        </p:nvGraphicFramePr>
        <p:xfrm>
          <a:off x="449280" y="3468600"/>
          <a:ext cx="2982960" cy="6019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49280" y="3468600"/>
                    <a:ext cx="2982960" cy="6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9" name=""/>
          <p:cNvGraphicFramePr/>
          <p:nvPr/>
        </p:nvGraphicFramePr>
        <p:xfrm>
          <a:off x="3763800" y="3411360"/>
          <a:ext cx="2565720" cy="6955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763800" y="3411360"/>
                    <a:ext cx="256572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1" name=""/>
          <p:cNvGraphicFramePr/>
          <p:nvPr/>
        </p:nvGraphicFramePr>
        <p:xfrm>
          <a:off x="6694560" y="3297240"/>
          <a:ext cx="2033640" cy="7826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694560" y="3297240"/>
                    <a:ext cx="203364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3" name=""/>
          <p:cNvGraphicFramePr/>
          <p:nvPr/>
        </p:nvGraphicFramePr>
        <p:xfrm>
          <a:off x="538200" y="4446720"/>
          <a:ext cx="2197080" cy="7826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38200" y="4446720"/>
                    <a:ext cx="219708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"/>
          <p:cNvGraphicFramePr/>
          <p:nvPr/>
        </p:nvGraphicFramePr>
        <p:xfrm>
          <a:off x="3267000" y="4425840"/>
          <a:ext cx="1239840" cy="7826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267000" y="4425840"/>
                    <a:ext cx="123984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" name=""/>
          <p:cNvGraphicFramePr/>
          <p:nvPr/>
        </p:nvGraphicFramePr>
        <p:xfrm>
          <a:off x="5403960" y="4452840"/>
          <a:ext cx="2576520" cy="6858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403960" y="4452840"/>
                    <a:ext cx="25765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17240" y="121284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1928880" y="1019160"/>
          <a:ext cx="3313080" cy="884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3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28880" y="1019160"/>
                    <a:ext cx="3313080" cy="8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1" name=""/>
          <p:cNvGraphicFramePr/>
          <p:nvPr/>
        </p:nvGraphicFramePr>
        <p:xfrm>
          <a:off x="4638600" y="2036880"/>
          <a:ext cx="1878120" cy="814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38600" y="2036880"/>
                    <a:ext cx="187812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3" name=""/>
          <p:cNvGraphicFramePr/>
          <p:nvPr/>
        </p:nvGraphicFramePr>
        <p:xfrm>
          <a:off x="3149640" y="3117960"/>
          <a:ext cx="2109600" cy="814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149640" y="3117960"/>
                    <a:ext cx="210960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5" name=""/>
          <p:cNvGraphicFramePr/>
          <p:nvPr/>
        </p:nvGraphicFramePr>
        <p:xfrm>
          <a:off x="5900760" y="3087720"/>
          <a:ext cx="2247840" cy="792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3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900760" y="3087720"/>
                    <a:ext cx="224784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7" name=""/>
          <p:cNvGraphicFramePr/>
          <p:nvPr/>
        </p:nvGraphicFramePr>
        <p:xfrm>
          <a:off x="2106720" y="4419720"/>
          <a:ext cx="2282760" cy="871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106720" y="4419720"/>
                    <a:ext cx="228276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9" name=""/>
          <p:cNvGraphicFramePr/>
          <p:nvPr/>
        </p:nvGraphicFramePr>
        <p:xfrm>
          <a:off x="5946840" y="4443480"/>
          <a:ext cx="2039760" cy="804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946840" y="4443480"/>
                    <a:ext cx="203976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1" name=""/>
          <p:cNvSpPr/>
          <p:nvPr/>
        </p:nvSpPr>
        <p:spPr>
          <a:xfrm>
            <a:off x="622080" y="3200400"/>
            <a:ext cx="19944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lit i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arate fr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174320" y="2300400"/>
            <a:ext cx="2261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y out brac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36480" y="1698480"/>
            <a:ext cx="52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415800" y="936720"/>
          <a:ext cx="2571840" cy="539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5800" y="936720"/>
                    <a:ext cx="257184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"/>
          <p:cNvSpPr/>
          <p:nvPr/>
        </p:nvSpPr>
        <p:spPr>
          <a:xfrm>
            <a:off x="3270600" y="1055520"/>
            <a:ext cx="274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es through the poi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6" name=""/>
          <p:cNvGraphicFramePr/>
          <p:nvPr/>
        </p:nvGraphicFramePr>
        <p:xfrm>
          <a:off x="6141960" y="800280"/>
          <a:ext cx="1023840" cy="772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5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41960" y="800280"/>
                    <a:ext cx="1023840" cy="77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8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1212840" y="1666800"/>
          <a:ext cx="1276200" cy="439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212840" y="1666800"/>
                    <a:ext cx="1276200" cy="4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1" name=""/>
          <p:cNvSpPr/>
          <p:nvPr/>
        </p:nvSpPr>
        <p:spPr>
          <a:xfrm>
            <a:off x="2948040" y="1687680"/>
            <a:ext cx="285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ress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terms of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698400" y="2476440"/>
          <a:ext cx="3114720" cy="716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8400" y="2476440"/>
                    <a:ext cx="311472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4" name=""/>
          <p:cNvSpPr/>
          <p:nvPr/>
        </p:nvSpPr>
        <p:spPr>
          <a:xfrm>
            <a:off x="4419000" y="2592360"/>
            <a:ext cx="15249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6243480" y="2382840"/>
          <a:ext cx="1024200" cy="773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243480" y="2382840"/>
                    <a:ext cx="1024200" cy="7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7" name=""/>
          <p:cNvGraphicFramePr/>
          <p:nvPr/>
        </p:nvGraphicFramePr>
        <p:xfrm>
          <a:off x="530280" y="3446640"/>
          <a:ext cx="2755800" cy="8697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30280" y="3446640"/>
                    <a:ext cx="2755800" cy="86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9" name=""/>
          <p:cNvGraphicFramePr/>
          <p:nvPr/>
        </p:nvGraphicFramePr>
        <p:xfrm>
          <a:off x="3621240" y="3405240"/>
          <a:ext cx="2858760" cy="8697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621240" y="3405240"/>
                    <a:ext cx="2858760" cy="86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1" name=""/>
          <p:cNvGraphicFramePr/>
          <p:nvPr/>
        </p:nvGraphicFramePr>
        <p:xfrm>
          <a:off x="6723000" y="3505320"/>
          <a:ext cx="2184480" cy="6397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723000" y="3505320"/>
                    <a:ext cx="218448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3" name=""/>
          <p:cNvGraphicFramePr/>
          <p:nvPr/>
        </p:nvGraphicFramePr>
        <p:xfrm>
          <a:off x="855720" y="4610160"/>
          <a:ext cx="1197000" cy="6397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74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55720" y="4610160"/>
                    <a:ext cx="119700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5" name=""/>
          <p:cNvGraphicFramePr/>
          <p:nvPr/>
        </p:nvGraphicFramePr>
        <p:xfrm>
          <a:off x="2887560" y="4560840"/>
          <a:ext cx="2678040" cy="7160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76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887560" y="4560840"/>
                    <a:ext cx="267804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17240" y="121284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1967040" y="1087560"/>
          <a:ext cx="1990440" cy="904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67040" y="1087560"/>
                    <a:ext cx="1990440" cy="9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9" name=""/>
          <p:cNvGraphicFramePr/>
          <p:nvPr/>
        </p:nvGraphicFramePr>
        <p:xfrm>
          <a:off x="1919160" y="2521080"/>
          <a:ext cx="1963800" cy="904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9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19160" y="2521080"/>
                    <a:ext cx="1963800" cy="9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1" name=""/>
          <p:cNvGraphicFramePr/>
          <p:nvPr/>
        </p:nvGraphicFramePr>
        <p:xfrm>
          <a:off x="5234040" y="2541600"/>
          <a:ext cx="2502000" cy="985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34040" y="2541600"/>
                    <a:ext cx="2502000" cy="9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343480" y="4214880"/>
          <a:ext cx="2448000" cy="664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343480" y="4214880"/>
                    <a:ext cx="2448000" cy="66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"/>
          <p:cNvSpPr/>
          <p:nvPr/>
        </p:nvSpPr>
        <p:spPr>
          <a:xfrm>
            <a:off x="5020560" y="1314360"/>
            <a:ext cx="19058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ight lin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19760" y="1052640"/>
            <a:ext cx="15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1073160" y="1638360"/>
          <a:ext cx="2097000" cy="788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73160" y="1638360"/>
                    <a:ext cx="2097000" cy="78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7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2068560" y="1015920"/>
          <a:ext cx="1192320" cy="417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68560" y="1015920"/>
                    <a:ext cx="11923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0" name=""/>
          <p:cNvSpPr/>
          <p:nvPr/>
        </p:nvSpPr>
        <p:spPr>
          <a:xfrm>
            <a:off x="3404880" y="1017720"/>
            <a:ext cx="34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es through the point (1, 2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507120" y="1870200"/>
            <a:ext cx="278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ress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erms of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24880" y="18525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622440" y="2781360"/>
          <a:ext cx="2147760" cy="788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1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22440" y="2781360"/>
                    <a:ext cx="2147760" cy="78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5" name=""/>
          <p:cNvGraphicFramePr/>
          <p:nvPr/>
        </p:nvGraphicFramePr>
        <p:xfrm>
          <a:off x="3322800" y="2673360"/>
          <a:ext cx="3170160" cy="839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1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322800" y="2673360"/>
                    <a:ext cx="3170160" cy="8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7" name=""/>
          <p:cNvSpPr/>
          <p:nvPr/>
        </p:nvSpPr>
        <p:spPr>
          <a:xfrm>
            <a:off x="7144560" y="2917800"/>
            <a:ext cx="9410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577800" y="3868560"/>
          <a:ext cx="2479680" cy="839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77800" y="3868560"/>
                    <a:ext cx="2479680" cy="8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0" name=""/>
          <p:cNvSpPr/>
          <p:nvPr/>
        </p:nvSpPr>
        <p:spPr>
          <a:xfrm>
            <a:off x="3344040" y="4127400"/>
            <a:ext cx="15249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1" name=""/>
          <p:cNvGraphicFramePr/>
          <p:nvPr/>
        </p:nvGraphicFramePr>
        <p:xfrm>
          <a:off x="5408640" y="3781440"/>
          <a:ext cx="3016080" cy="1017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2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408640" y="3781440"/>
                    <a:ext cx="3016080" cy="10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3" name=""/>
          <p:cNvGraphicFramePr/>
          <p:nvPr/>
        </p:nvGraphicFramePr>
        <p:xfrm>
          <a:off x="3819600" y="5057640"/>
          <a:ext cx="664920" cy="3574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52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819600" y="5057640"/>
                    <a:ext cx="664920" cy="3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5" name=""/>
          <p:cNvSpPr/>
          <p:nvPr/>
        </p:nvSpPr>
        <p:spPr>
          <a:xfrm>
            <a:off x="2085120" y="5106960"/>
            <a:ext cx="12459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e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5332320" y="4883040"/>
          <a:ext cx="3092400" cy="789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52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332320" y="4883040"/>
                    <a:ext cx="3092400" cy="7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17240" y="121284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8" name=""/>
          <p:cNvGraphicFramePr/>
          <p:nvPr/>
        </p:nvGraphicFramePr>
        <p:xfrm>
          <a:off x="1789200" y="958680"/>
          <a:ext cx="1612800" cy="984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89200" y="958680"/>
                    <a:ext cx="1612800" cy="9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0" name=""/>
          <p:cNvGraphicFramePr/>
          <p:nvPr/>
        </p:nvGraphicFramePr>
        <p:xfrm>
          <a:off x="6207120" y="960480"/>
          <a:ext cx="2141640" cy="1039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4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207120" y="960480"/>
                    <a:ext cx="214164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2" name=""/>
          <p:cNvGraphicFramePr/>
          <p:nvPr/>
        </p:nvGraphicFramePr>
        <p:xfrm>
          <a:off x="717480" y="2462040"/>
          <a:ext cx="2419560" cy="1040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17480" y="2462040"/>
                    <a:ext cx="2419560" cy="10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4" name=""/>
          <p:cNvGraphicFramePr/>
          <p:nvPr/>
        </p:nvGraphicFramePr>
        <p:xfrm>
          <a:off x="4067280" y="2492280"/>
          <a:ext cx="2643120" cy="900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4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067280" y="2492280"/>
                    <a:ext cx="2643120" cy="9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6" name=""/>
          <p:cNvGraphicFramePr/>
          <p:nvPr/>
        </p:nvGraphicFramePr>
        <p:xfrm>
          <a:off x="682560" y="3822840"/>
          <a:ext cx="2503440" cy="1265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4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82560" y="3822840"/>
                    <a:ext cx="2503440" cy="12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8" name=""/>
          <p:cNvGraphicFramePr/>
          <p:nvPr/>
        </p:nvGraphicFramePr>
        <p:xfrm>
          <a:off x="4402080" y="4032360"/>
          <a:ext cx="2725920" cy="844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4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402080" y="4032360"/>
                    <a:ext cx="2725920" cy="8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0" name=""/>
          <p:cNvSpPr/>
          <p:nvPr/>
        </p:nvSpPr>
        <p:spPr>
          <a:xfrm>
            <a:off x="3858840" y="1227240"/>
            <a:ext cx="19058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ight lin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19760" y="1238400"/>
            <a:ext cx="19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urve for whi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2523960" y="1008000"/>
          <a:ext cx="1833840" cy="808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6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23960" y="1008000"/>
                    <a:ext cx="1833840" cy="8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1" name=""/>
          <p:cNvSpPr/>
          <p:nvPr/>
        </p:nvSpPr>
        <p:spPr>
          <a:xfrm>
            <a:off x="4621320" y="1203480"/>
            <a:ext cx="346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es through the point (–1, 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63680" y="2077920"/>
            <a:ext cx="27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ress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terms of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3" name=""/>
          <p:cNvGraphicFramePr/>
          <p:nvPr/>
        </p:nvGraphicFramePr>
        <p:xfrm>
          <a:off x="758880" y="2895480"/>
          <a:ext cx="2279520" cy="860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6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8880" y="2895480"/>
                    <a:ext cx="227952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5" name=""/>
          <p:cNvGraphicFramePr/>
          <p:nvPr/>
        </p:nvGraphicFramePr>
        <p:xfrm>
          <a:off x="4079880" y="3090960"/>
          <a:ext cx="2516040" cy="469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6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079880" y="3090960"/>
                    <a:ext cx="251604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7" name=""/>
          <p:cNvSpPr/>
          <p:nvPr/>
        </p:nvSpPr>
        <p:spPr>
          <a:xfrm>
            <a:off x="723240" y="4160880"/>
            <a:ext cx="15249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2568600" y="4057560"/>
          <a:ext cx="3224160" cy="470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68600" y="4057560"/>
                    <a:ext cx="322416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0" name=""/>
          <p:cNvGraphicFramePr/>
          <p:nvPr/>
        </p:nvGraphicFramePr>
        <p:xfrm>
          <a:off x="6578640" y="4145040"/>
          <a:ext cx="1179360" cy="417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7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578640" y="4145040"/>
                    <a:ext cx="117936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2" name=""/>
          <p:cNvGraphicFramePr/>
          <p:nvPr/>
        </p:nvGraphicFramePr>
        <p:xfrm>
          <a:off x="5989680" y="4889520"/>
          <a:ext cx="2516040" cy="4698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7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989680" y="4889520"/>
                    <a:ext cx="251604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576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577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18320" y="121284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4" name=""/>
          <p:cNvGraphicFramePr/>
          <p:nvPr/>
        </p:nvGraphicFramePr>
        <p:xfrm>
          <a:off x="1749600" y="957240"/>
          <a:ext cx="1952280" cy="911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49600" y="957240"/>
                    <a:ext cx="195228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6" name=""/>
          <p:cNvGraphicFramePr/>
          <p:nvPr/>
        </p:nvGraphicFramePr>
        <p:xfrm>
          <a:off x="4610160" y="917640"/>
          <a:ext cx="2452680" cy="890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10160" y="917640"/>
                    <a:ext cx="2452680" cy="8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8" name=""/>
          <p:cNvSpPr/>
          <p:nvPr/>
        </p:nvSpPr>
        <p:spPr>
          <a:xfrm>
            <a:off x="542880" y="2414520"/>
            <a:ext cx="31082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not use standard integ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multipl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4587840" y="2144880"/>
          <a:ext cx="2538360" cy="825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9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87840" y="2144880"/>
                    <a:ext cx="253836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1" name=""/>
          <p:cNvGraphicFramePr/>
          <p:nvPr/>
        </p:nvGraphicFramePr>
        <p:xfrm>
          <a:off x="776160" y="3443400"/>
          <a:ext cx="2278080" cy="652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9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76160" y="3443400"/>
                    <a:ext cx="2278080" cy="6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3" name=""/>
          <p:cNvGraphicFramePr/>
          <p:nvPr/>
        </p:nvGraphicFramePr>
        <p:xfrm>
          <a:off x="4106880" y="3465360"/>
          <a:ext cx="3449520" cy="6098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9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106880" y="3465360"/>
                    <a:ext cx="344952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5" name=""/>
          <p:cNvGraphicFramePr/>
          <p:nvPr/>
        </p:nvGraphicFramePr>
        <p:xfrm>
          <a:off x="722160" y="4552920"/>
          <a:ext cx="2168640" cy="609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9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22160" y="4552920"/>
                    <a:ext cx="21686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7" name=""/>
          <p:cNvGraphicFramePr/>
          <p:nvPr/>
        </p:nvGraphicFramePr>
        <p:xfrm>
          <a:off x="3240000" y="4545000"/>
          <a:ext cx="2264040" cy="5986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59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240000" y="4545000"/>
                    <a:ext cx="2264040" cy="5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9" name=""/>
          <p:cNvGraphicFramePr/>
          <p:nvPr/>
        </p:nvGraphicFramePr>
        <p:xfrm>
          <a:off x="5979960" y="4545000"/>
          <a:ext cx="714600" cy="5986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0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979960" y="4545000"/>
                    <a:ext cx="714600" cy="5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1" name=""/>
          <p:cNvGraphicFramePr/>
          <p:nvPr/>
        </p:nvGraphicFramePr>
        <p:xfrm>
          <a:off x="7176960" y="4603680"/>
          <a:ext cx="833400" cy="479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02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7176960" y="4603680"/>
                    <a:ext cx="83340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606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609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18320" y="121284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1728720" y="1019160"/>
          <a:ext cx="1228680" cy="825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28720" y="1019160"/>
                    <a:ext cx="122868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5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6" name=""/>
          <p:cNvGraphicFramePr/>
          <p:nvPr/>
        </p:nvGraphicFramePr>
        <p:xfrm>
          <a:off x="6316560" y="976320"/>
          <a:ext cx="1622520" cy="825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1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316560" y="976320"/>
                    <a:ext cx="162252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8" name=""/>
          <p:cNvGraphicFramePr/>
          <p:nvPr/>
        </p:nvGraphicFramePr>
        <p:xfrm>
          <a:off x="738360" y="2033640"/>
          <a:ext cx="1568160" cy="1054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38360" y="2033640"/>
                    <a:ext cx="1568160" cy="10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0" name=""/>
          <p:cNvGraphicFramePr/>
          <p:nvPr/>
        </p:nvGraphicFramePr>
        <p:xfrm>
          <a:off x="3298680" y="2131920"/>
          <a:ext cx="2187720" cy="901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2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298680" y="2131920"/>
                    <a:ext cx="218772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2" name=""/>
          <p:cNvGraphicFramePr/>
          <p:nvPr/>
        </p:nvGraphicFramePr>
        <p:xfrm>
          <a:off x="604800" y="3440160"/>
          <a:ext cx="3470400" cy="8334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2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04800" y="3440160"/>
                    <a:ext cx="347040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4" name=""/>
          <p:cNvGraphicFramePr/>
          <p:nvPr/>
        </p:nvGraphicFramePr>
        <p:xfrm>
          <a:off x="4576680" y="3440160"/>
          <a:ext cx="2144880" cy="833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2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576680" y="3440160"/>
                    <a:ext cx="214488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6" name=""/>
          <p:cNvGraphicFramePr/>
          <p:nvPr/>
        </p:nvGraphicFramePr>
        <p:xfrm>
          <a:off x="7262640" y="3384720"/>
          <a:ext cx="1009800" cy="9936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2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262640" y="3384720"/>
                    <a:ext cx="1009800" cy="99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8" name=""/>
          <p:cNvGraphicFramePr/>
          <p:nvPr/>
        </p:nvGraphicFramePr>
        <p:xfrm>
          <a:off x="7169040" y="4676760"/>
          <a:ext cx="1198800" cy="8017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29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169040" y="4676760"/>
                    <a:ext cx="1198800" cy="8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0" name=""/>
          <p:cNvSpPr/>
          <p:nvPr/>
        </p:nvSpPr>
        <p:spPr>
          <a:xfrm>
            <a:off x="3858840" y="1227240"/>
            <a:ext cx="19058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ight lin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633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634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418320" y="121284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2" name=""/>
          <p:cNvGraphicFramePr/>
          <p:nvPr/>
        </p:nvGraphicFramePr>
        <p:xfrm>
          <a:off x="1730520" y="981000"/>
          <a:ext cx="2058840" cy="905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4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30520" y="981000"/>
                    <a:ext cx="205884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4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714920" y="1023840"/>
            <a:ext cx="23616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tandard Integ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rom chain ru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6" name=""/>
          <p:cNvGraphicFramePr/>
          <p:nvPr/>
        </p:nvGraphicFramePr>
        <p:xfrm>
          <a:off x="749160" y="2341440"/>
          <a:ext cx="2163960" cy="1035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4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49160" y="2341440"/>
                    <a:ext cx="216396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8" name=""/>
          <p:cNvGraphicFramePr/>
          <p:nvPr/>
        </p:nvGraphicFramePr>
        <p:xfrm>
          <a:off x="3809880" y="2367000"/>
          <a:ext cx="4483080" cy="984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4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09880" y="2367000"/>
                    <a:ext cx="448308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0" name=""/>
          <p:cNvGraphicFramePr/>
          <p:nvPr/>
        </p:nvGraphicFramePr>
        <p:xfrm>
          <a:off x="525600" y="3968640"/>
          <a:ext cx="2576520" cy="881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5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25600" y="3968640"/>
                    <a:ext cx="2576520" cy="8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2" name=""/>
          <p:cNvGraphicFramePr/>
          <p:nvPr/>
        </p:nvGraphicFramePr>
        <p:xfrm>
          <a:off x="3441600" y="4006800"/>
          <a:ext cx="1854360" cy="803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5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441600" y="4006800"/>
                    <a:ext cx="1854360" cy="8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4" name=""/>
          <p:cNvGraphicFramePr/>
          <p:nvPr/>
        </p:nvGraphicFramePr>
        <p:xfrm>
          <a:off x="5556240" y="4006800"/>
          <a:ext cx="1262160" cy="8031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5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556240" y="4006800"/>
                    <a:ext cx="1262160" cy="8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6" name=""/>
          <p:cNvGraphicFramePr/>
          <p:nvPr/>
        </p:nvGraphicFramePr>
        <p:xfrm>
          <a:off x="7083360" y="4122720"/>
          <a:ext cx="1158840" cy="5698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5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083360" y="4122720"/>
                    <a:ext cx="115884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7680" y="159084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657440" y="1192320"/>
          <a:ext cx="1995480" cy="1093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57440" y="1192320"/>
                    <a:ext cx="1995480" cy="10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3608280" y="2782800"/>
          <a:ext cx="1544760" cy="514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608280" y="2782800"/>
                    <a:ext cx="154476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7605720" y="3686040"/>
            <a:ext cx="1320840" cy="717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665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19400" y="116676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ur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0" name=""/>
          <p:cNvGraphicFramePr/>
          <p:nvPr/>
        </p:nvGraphicFramePr>
        <p:xfrm>
          <a:off x="1789200" y="1092240"/>
          <a:ext cx="1272960" cy="438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89200" y="1092240"/>
                    <a:ext cx="127296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2" name=""/>
          <p:cNvGraphicFramePr/>
          <p:nvPr/>
        </p:nvGraphicFramePr>
        <p:xfrm>
          <a:off x="6122880" y="896760"/>
          <a:ext cx="892440" cy="771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7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22880" y="896760"/>
                    <a:ext cx="892440" cy="7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4" name=""/>
          <p:cNvSpPr/>
          <p:nvPr/>
        </p:nvSpPr>
        <p:spPr>
          <a:xfrm>
            <a:off x="3270600" y="1109520"/>
            <a:ext cx="274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es through the poi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5" name=""/>
          <p:cNvGraphicFramePr/>
          <p:nvPr/>
        </p:nvGraphicFramePr>
        <p:xfrm>
          <a:off x="576360" y="1709640"/>
          <a:ext cx="2371680" cy="519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7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6360" y="1709640"/>
                    <a:ext cx="237168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7" name=""/>
          <p:cNvSpPr/>
          <p:nvPr/>
        </p:nvSpPr>
        <p:spPr>
          <a:xfrm>
            <a:off x="3288960" y="170172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d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(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8" name=""/>
          <p:cNvGraphicFramePr/>
          <p:nvPr/>
        </p:nvGraphicFramePr>
        <p:xfrm>
          <a:off x="666720" y="2536920"/>
          <a:ext cx="3646440" cy="772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7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66720" y="2536920"/>
                    <a:ext cx="3646440" cy="77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0" name=""/>
          <p:cNvGraphicFramePr/>
          <p:nvPr/>
        </p:nvGraphicFramePr>
        <p:xfrm>
          <a:off x="712800" y="3622680"/>
          <a:ext cx="3457440" cy="773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8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12800" y="3622680"/>
                    <a:ext cx="3457440" cy="7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2" name=""/>
          <p:cNvSpPr/>
          <p:nvPr/>
        </p:nvSpPr>
        <p:spPr>
          <a:xfrm>
            <a:off x="4854960" y="2752560"/>
            <a:ext cx="20948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given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3" name=""/>
          <p:cNvGraphicFramePr/>
          <p:nvPr/>
        </p:nvGraphicFramePr>
        <p:xfrm>
          <a:off x="7394400" y="2495520"/>
          <a:ext cx="892440" cy="771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394400" y="2495520"/>
                    <a:ext cx="89244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4557600" y="3594240"/>
          <a:ext cx="2892600" cy="7729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557600" y="3594240"/>
                    <a:ext cx="2892600" cy="77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7" name=""/>
          <p:cNvGraphicFramePr/>
          <p:nvPr/>
        </p:nvGraphicFramePr>
        <p:xfrm>
          <a:off x="569880" y="4640400"/>
          <a:ext cx="2266920" cy="7048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8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69880" y="4640400"/>
                    <a:ext cx="226692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9" name=""/>
          <p:cNvGraphicFramePr/>
          <p:nvPr/>
        </p:nvGraphicFramePr>
        <p:xfrm>
          <a:off x="3168720" y="4608360"/>
          <a:ext cx="1515960" cy="7160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9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168720" y="4608360"/>
                    <a:ext cx="151596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1" name=""/>
          <p:cNvGraphicFramePr/>
          <p:nvPr/>
        </p:nvGraphicFramePr>
        <p:xfrm>
          <a:off x="5030640" y="4613400"/>
          <a:ext cx="3678480" cy="7729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030640" y="4613400"/>
                    <a:ext cx="3678480" cy="77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7701120" y="3679920"/>
          <a:ext cx="1133280" cy="6728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7701120" y="3679920"/>
                    <a:ext cx="1133280" cy="67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5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0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697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698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701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6" name=""/>
          <p:cNvGraphicFramePr/>
          <p:nvPr/>
        </p:nvGraphicFramePr>
        <p:xfrm>
          <a:off x="1768320" y="1150920"/>
          <a:ext cx="3162600" cy="959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68320" y="1150920"/>
                    <a:ext cx="3162600" cy="9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8" name=""/>
          <p:cNvSpPr/>
          <p:nvPr/>
        </p:nvSpPr>
        <p:spPr>
          <a:xfrm>
            <a:off x="487800" y="138276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9" name=""/>
          <p:cNvGraphicFramePr/>
          <p:nvPr/>
        </p:nvGraphicFramePr>
        <p:xfrm>
          <a:off x="4532400" y="2754360"/>
          <a:ext cx="3317760" cy="957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1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32400" y="2754360"/>
                    <a:ext cx="331776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1" name=""/>
          <p:cNvSpPr/>
          <p:nvPr/>
        </p:nvSpPr>
        <p:spPr>
          <a:xfrm>
            <a:off x="955800" y="3084480"/>
            <a:ext cx="24285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term by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714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715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7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718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17240" y="121284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4" name=""/>
          <p:cNvGraphicFramePr/>
          <p:nvPr/>
        </p:nvGraphicFramePr>
        <p:xfrm>
          <a:off x="1979640" y="1039680"/>
          <a:ext cx="2133720" cy="887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2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79640" y="1039680"/>
                    <a:ext cx="213372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6" name=""/>
          <p:cNvGraphicFramePr/>
          <p:nvPr/>
        </p:nvGraphicFramePr>
        <p:xfrm>
          <a:off x="4175280" y="2365200"/>
          <a:ext cx="3027240" cy="1130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2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75280" y="2365200"/>
                    <a:ext cx="3027240" cy="11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8" name=""/>
          <p:cNvGraphicFramePr/>
          <p:nvPr/>
        </p:nvGraphicFramePr>
        <p:xfrm>
          <a:off x="5078520" y="3983040"/>
          <a:ext cx="2992320" cy="857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2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78520" y="3983040"/>
                    <a:ext cx="299232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0" name=""/>
          <p:cNvSpPr/>
          <p:nvPr/>
        </p:nvSpPr>
        <p:spPr>
          <a:xfrm>
            <a:off x="970200" y="2795760"/>
            <a:ext cx="24285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term by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2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733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734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737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418320" y="121284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3" name=""/>
          <p:cNvGraphicFramePr/>
          <p:nvPr/>
        </p:nvGraphicFramePr>
        <p:xfrm>
          <a:off x="1952640" y="961920"/>
          <a:ext cx="2120760" cy="836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4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52640" y="961920"/>
                    <a:ext cx="212076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5" name=""/>
          <p:cNvGraphicFramePr/>
          <p:nvPr/>
        </p:nvGraphicFramePr>
        <p:xfrm>
          <a:off x="4822920" y="961920"/>
          <a:ext cx="2773440" cy="836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4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22920" y="961920"/>
                    <a:ext cx="277344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7" name=""/>
          <p:cNvGraphicFramePr/>
          <p:nvPr/>
        </p:nvGraphicFramePr>
        <p:xfrm>
          <a:off x="554040" y="2009880"/>
          <a:ext cx="2257560" cy="1457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4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4040" y="2009880"/>
                    <a:ext cx="225756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9" name=""/>
          <p:cNvGraphicFramePr/>
          <p:nvPr/>
        </p:nvGraphicFramePr>
        <p:xfrm>
          <a:off x="3317760" y="2166840"/>
          <a:ext cx="2394000" cy="1025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5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317760" y="2166840"/>
                    <a:ext cx="2394000" cy="10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1" name=""/>
          <p:cNvGraphicFramePr/>
          <p:nvPr/>
        </p:nvGraphicFramePr>
        <p:xfrm>
          <a:off x="6161040" y="2166840"/>
          <a:ext cx="2584440" cy="1025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5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161040" y="2166840"/>
                    <a:ext cx="2584440" cy="10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3" name=""/>
          <p:cNvGraphicFramePr/>
          <p:nvPr/>
        </p:nvGraphicFramePr>
        <p:xfrm>
          <a:off x="471600" y="3755880"/>
          <a:ext cx="4525920" cy="7956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5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71600" y="3755880"/>
                    <a:ext cx="4525920" cy="7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5" name=""/>
          <p:cNvGraphicFramePr/>
          <p:nvPr/>
        </p:nvGraphicFramePr>
        <p:xfrm>
          <a:off x="5513400" y="3738600"/>
          <a:ext cx="3119400" cy="7729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75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513400" y="3738600"/>
                    <a:ext cx="3119400" cy="77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7" name=""/>
          <p:cNvGraphicFramePr/>
          <p:nvPr/>
        </p:nvGraphicFramePr>
        <p:xfrm>
          <a:off x="871560" y="4844880"/>
          <a:ext cx="1285920" cy="7048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75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871560" y="4844880"/>
                    <a:ext cx="128592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9" name=""/>
          <p:cNvGraphicFramePr/>
          <p:nvPr/>
        </p:nvGraphicFramePr>
        <p:xfrm>
          <a:off x="3286080" y="4830840"/>
          <a:ext cx="827280" cy="7048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76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286080" y="4830840"/>
                    <a:ext cx="82728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1" name=""/>
          <p:cNvGraphicFramePr/>
          <p:nvPr/>
        </p:nvGraphicFramePr>
        <p:xfrm>
          <a:off x="5281560" y="4898880"/>
          <a:ext cx="849240" cy="5684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762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281560" y="4898880"/>
                    <a:ext cx="849240" cy="5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9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9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4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4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9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>
            <a:hlinkClick r:id="" action="ppaction://hlinkshowjump?jump=endshow"/>
            <a:hlinkClick r:id="rId1"/>
          </p:cNvPr>
          <p:cNvSpPr/>
          <p:nvPr/>
        </p:nvSpPr>
        <p:spPr>
          <a:xfrm>
            <a:off x="7956720" y="6093000"/>
            <a:ext cx="647640" cy="504720"/>
          </a:xfrm>
          <a:prstGeom prst="rightArrow">
            <a:avLst>
              <a:gd name="adj1" fmla="val 50000"/>
              <a:gd name="adj2" fmla="val 3207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7164360" y="6165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 rot="20998200">
            <a:off x="2852640" y="2133360"/>
            <a:ext cx="914400" cy="13129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cc00"/>
                </a:solidFill>
                <a:latin typeface="Times New Roman"/>
              </a:rPr>
              <a:t>C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 rot="388800">
            <a:off x="3995640" y="2133360"/>
            <a:ext cx="914400" cy="13129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66"/>
                </a:solidFill>
                <a:latin typeface="Times New Roman"/>
              </a:rPr>
              <a:t>P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 rot="21243600">
            <a:off x="5138280" y="2133360"/>
            <a:ext cx="914400" cy="1312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66ff"/>
                </a:solidFill>
                <a:latin typeface="Times New Roman"/>
              </a:rPr>
              <a:t>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0" y="371628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w.maths4scotland.co.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0" y="55144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©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CPD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" descr=""/>
          <p:cNvPicPr/>
          <p:nvPr/>
        </p:nvPicPr>
        <p:blipFill>
          <a:blip r:embed="rId2"/>
          <a:stretch/>
        </p:blipFill>
        <p:spPr>
          <a:xfrm>
            <a:off x="507960" y="404640"/>
            <a:ext cx="8096400" cy="42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0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61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2000"/>
                            </p:stCondLst>
                            <p:childTnLst>
                              <p:par>
                                <p:cTn id="96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69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4000"/>
                            </p:stCondLst>
                            <p:childTnLst>
                              <p:par>
                                <p:cTn id="97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77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7240" y="121284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701720" y="993600"/>
          <a:ext cx="3540240" cy="874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01720" y="993600"/>
                    <a:ext cx="354024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4208400" y="2130480"/>
          <a:ext cx="3171960" cy="801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08400" y="2130480"/>
                    <a:ext cx="3171960" cy="8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4441680" y="3197160"/>
          <a:ext cx="3052800" cy="1058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441680" y="3197160"/>
                    <a:ext cx="3052800" cy="10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4390920" y="4616280"/>
          <a:ext cx="2698920" cy="532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390920" y="4616280"/>
                    <a:ext cx="269892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622080" y="2619360"/>
            <a:ext cx="2261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y out brac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0640" y="3645000"/>
            <a:ext cx="24285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term by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81920" y="4695840"/>
            <a:ext cx="9410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17680" y="159084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660680" y="1251000"/>
          <a:ext cx="2187360" cy="1093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0680" y="1251000"/>
                    <a:ext cx="2187360" cy="10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3994200" y="2768760"/>
          <a:ext cx="1673280" cy="450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94200" y="2768760"/>
                    <a:ext cx="167328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5520" y="159084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812960" y="1092240"/>
          <a:ext cx="2682720" cy="1249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12960" y="1092240"/>
                    <a:ext cx="2682720" cy="12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4919760" y="2581200"/>
          <a:ext cx="2388960" cy="1212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919760" y="2581200"/>
                    <a:ext cx="2388960" cy="12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4834080" y="4165560"/>
          <a:ext cx="2500200" cy="919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34080" y="4165560"/>
                    <a:ext cx="250020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1262160" y="2867040"/>
            <a:ext cx="19807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Integ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rom Chain Ru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44600" y="1228680"/>
            <a:ext cx="21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,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532240" y="836640"/>
          <a:ext cx="2912760" cy="1317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32240" y="836640"/>
                    <a:ext cx="2912760" cy="13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534960" y="2286000"/>
          <a:ext cx="2276640" cy="1066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4960" y="2286000"/>
                    <a:ext cx="227664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3073320" y="2227320"/>
          <a:ext cx="2440080" cy="1150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73320" y="2227320"/>
                    <a:ext cx="244008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5699160" y="2327400"/>
          <a:ext cx="3024000" cy="817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699160" y="2327400"/>
                    <a:ext cx="302400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633240" y="3664080"/>
          <a:ext cx="2770200" cy="730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33240" y="3664080"/>
                    <a:ext cx="277020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4856040" y="3656160"/>
          <a:ext cx="2948040" cy="608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856040" y="3656160"/>
                    <a:ext cx="294804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730080" y="4759200"/>
          <a:ext cx="2127600" cy="608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30080" y="4759200"/>
                    <a:ext cx="212760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3738600" y="4805280"/>
          <a:ext cx="1701720" cy="5479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738600" y="4805280"/>
                    <a:ext cx="1701720" cy="5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6576840" y="4821120"/>
          <a:ext cx="1609920" cy="4860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576840" y="4821120"/>
                    <a:ext cx="160992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6600" y="159084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336760" y="1098720"/>
          <a:ext cx="1212840" cy="1395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36760" y="1098720"/>
                    <a:ext cx="1212840" cy="13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6473880" y="1170000"/>
          <a:ext cx="2043000" cy="1108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73880" y="1170000"/>
                    <a:ext cx="2043000" cy="11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958680" y="3054240"/>
          <a:ext cx="1859040" cy="800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58680" y="3054240"/>
                    <a:ext cx="185904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067280" y="3057480"/>
          <a:ext cx="2916000" cy="704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067280" y="3057480"/>
                    <a:ext cx="291600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958680" y="4233960"/>
          <a:ext cx="2051280" cy="1089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958680" y="4233960"/>
                    <a:ext cx="2051280" cy="10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4059360" y="4249800"/>
          <a:ext cx="928440" cy="9936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059360" y="4249800"/>
                    <a:ext cx="928440" cy="99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4311000" y="1663560"/>
            <a:ext cx="19058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ight lin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                                                                                                  Re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>
            <a:hlinkClick r:id="" action="ppaction://hlinkshowjump?jump=previous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877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28000" y="5877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258920" y="609300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164360" y="61009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4176720" y="5816520"/>
            <a:ext cx="523800" cy="4953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184640" y="6267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17680" y="159084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665360" y="1146240"/>
          <a:ext cx="2413080" cy="1222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5360" y="1146240"/>
                    <a:ext cx="2413080" cy="12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1090440" y="2763720"/>
          <a:ext cx="2357640" cy="1177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90440" y="2763720"/>
                    <a:ext cx="2357640" cy="11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4203720" y="2809800"/>
          <a:ext cx="3532320" cy="10303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203720" y="2809800"/>
                    <a:ext cx="3532320" cy="10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1090440" y="4278240"/>
          <a:ext cx="2210040" cy="1047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090440" y="4278240"/>
                    <a:ext cx="2210040" cy="10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3720960" y="4581360"/>
          <a:ext cx="2789280" cy="4413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720960" y="4581360"/>
                    <a:ext cx="278928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6916680" y="4562640"/>
          <a:ext cx="1822680" cy="4410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916680" y="4562640"/>
                    <a:ext cx="1822680" cy="44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5266080" y="1314360"/>
            <a:ext cx="23616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tandard Integ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rom chain ru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5T22:07:43Z</dcterms:created>
  <dc:creator>Derek Warburton</dc:creator>
  <dc:description/>
  <dc:language>en-US</dc:language>
  <cp:lastModifiedBy>Derek Warburton</cp:lastModifiedBy>
  <dcterms:modified xsi:type="dcterms:W3CDTF">2004-05-17T20:34:49Z</dcterms:modified>
  <cp:revision>347</cp:revision>
  <dc:subject/>
  <dc:title>Standard Grade</dc:title>
</cp:coreProperties>
</file>